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Holly%20Jolly%20Christmas.wav" ContentType="audio/x-wav"/>
  <Override PartName="/ppt/media/image7.gif" ContentType="image/gif"/>
  <Override PartName="/ppt/media/image3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96A6-C8D8-4E75-AB09-94ED12B7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550C-4070-44EC-AA47-21903A9B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11E-F838-47FF-B236-D3BC4498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5BFE-A070-4044-81C0-CF80AE89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91E8-1A12-4BB1-A477-26932012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DDF-8A06-4255-8A9D-1082329F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BF6B-EA16-481C-899F-6DEEE514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9CA2-D7D9-4720-9BCE-2C468B36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2BA-BEB7-4331-AB24-2E6742BF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9CD8-76DF-47D1-BD07-5619935F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99DA-1B26-438B-9A93-EFF44629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EA62-73DF-49CF-A92D-45D60D56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D183-B87A-4784-B75C-371D3F19E81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Holly%20Jolly%20Christma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620640"/>
            <a:ext cx="5689800" cy="265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lly jolly chrismas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0" y="3213000"/>
            <a:ext cx="1855800" cy="3475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156360" y="4941720"/>
            <a:ext cx="25923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Sofía, 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César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y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Andrea Es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ALBA, CARLOS Y ALB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ave a holly jolly christm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t’s the best time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split dir="out" orient="horz"/>
    <p:sndAc>
      <p:stSnd>
        <p:snd r:embed="rId2" name="Holly%20Jolly%20Christma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don’t know if there’ll be sno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t have a cup of ch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40000" y="2664000"/>
            <a:ext cx="4824360" cy="3684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ave a holly jolly christm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nd when you walk down the str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1280" y="3716280"/>
            <a:ext cx="2008080" cy="267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16360" y="2276640"/>
            <a:ext cx="5472000" cy="4103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ay hello to friends you  know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nd everyone you m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2152800" cy="1600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694320" cy="4273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991200" y="4653000"/>
            <a:ext cx="2152800" cy="1600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613080" y="7646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O HO the mistletoe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ung where you can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18920" y="378900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Somebody waits for you</a:t>
            </a:r>
            <a:br>
              <a:rPr sz="2800"/>
            </a:br>
            <a:r>
              <a:rPr b="0" lang="es-ES" sz="2800" spc="-1" strike="noStrike">
                <a:solidFill>
                  <a:srgbClr val="ff3300"/>
                </a:solidFill>
                <a:latin typeface="Arial"/>
              </a:rPr>
              <a:t>kiss her once for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60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ff"/>
                </a:solidFill>
                <a:latin typeface="Arial"/>
              </a:rPr>
              <a:t>Have a holly jolly christmas</a:t>
            </a:r>
            <a:br>
              <a:rPr sz="3200"/>
            </a:br>
            <a:r>
              <a:rPr b="0" lang="es-ES" sz="3200" spc="-1" strike="noStrike">
                <a:solidFill>
                  <a:srgbClr val="ff00ff"/>
                </a:solidFill>
                <a:latin typeface="Arial"/>
              </a:rPr>
              <a:t>and in case you didn´t h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ffff"/>
                </a:solidFill>
                <a:latin typeface="Arial"/>
              </a:rPr>
              <a:t>Oh by golly have a holly jolly christmas this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9:07:00Z</dcterms:created>
  <dc:creator>pc10</dc:creator>
  <dc:description/>
  <dc:language>en-US</dc:language>
  <cp:lastModifiedBy>pc10</cp:lastModifiedBy>
  <dcterms:modified xsi:type="dcterms:W3CDTF">2011-12-19T11:51:04Z</dcterms:modified>
  <cp:revision>5</cp:revision>
  <dc:subject/>
  <dc:title>Diapositiva 1</dc:title>
</cp:coreProperties>
</file>